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BEC-472E-42C4-B2D5-CDA0343C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2B2-940F-46D7-A69A-743C5C0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EE4-C987-4198-ACD6-284BC11D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26A-2358-47A4-8469-9CEA6BD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182-580A-45AA-B457-B73229E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65B-E1AB-4432-B76E-AA86D6E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AB-D466-4F26-9116-08B51E96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461-EF91-47F6-8091-3863C12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481-78AA-49E7-BFF6-1424D98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398-FDB5-42DE-8779-DA5AD47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373-F804-4175-B8CD-AA6F01C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779-880E-4360-B9D7-1388A1B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5B96-0F8A-4EF9-ADA9-DD06F7E6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219320" y="5867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77400" y="1484280"/>
            <a:ext cx="75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OLLERANZE GEOMETRI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51280" y="256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92280"/>
            <a:ext cx="9144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ccezioni alla UNI ISO 8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eccezioni che impongono l’interdipendenza tra dimensione e geometria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igenza di invil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zione della condizione di massimo o minimo mate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vvero la t. g. è applicata in modo indipendente dalle dimensioni se non è specificato un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odificato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ostituito dall’indicazione dell’esigenza di inviluppo, ovvero dall’applicazione d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izione di massimo materiale MM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ppure d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imo materiale L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042920" y="1125360"/>
            <a:ext cx="6553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incipio di inviluppo o regola di Tay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 Non deve essere superato l’inviluppo della forma perfetta corrispondente alla condizione di massimo materiale M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 Se una dimensione locale dell’elemento si allontana dalla MMC è consentita una variazione di forma uguale all’entità dello scos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26920" y="907920"/>
            <a:ext cx="7274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igenza di invil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lica che non deve essere superato l’inviluppo di forma perfetta corrispondente alla MM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indica con 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opo la quota e la tolleranza dimens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simbolo esprime l’interdipendenza tra dimensione e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620640"/>
            <a:ext cx="7920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incipio del Massimo Mate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i pezzi da assemblare l’accoppiamento dipende dall’effetto congiunto delle dimensioni effettive e dagli errori di forma e posizione dei pezz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caso di un accoppiamento con giuoco, questo ha il valore minimo quando gli elementi da accoppiare si trovano nella condizione d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ssimo materiale MM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dim max per il perno, dim min per il foro – vedasi fig. 14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63"/>
          <p:cNvPicPr/>
          <p:nvPr/>
        </p:nvPicPr>
        <p:blipFill>
          <a:blip r:embed="rId1"/>
          <a:stretch/>
        </p:blipFill>
        <p:spPr>
          <a:xfrm>
            <a:off x="1835280" y="20520"/>
            <a:ext cx="5754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95280" y="620640"/>
            <a:ext cx="784872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incipio del massimo materiale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gioco dell’accoppiamento cresce se le dimensioni effettive degli elementi si scostano dai limiti di MM e se gli errori di forma e posizione non raggiungono i massimi valori consen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onseguenza è che le tolleranza di forma e posizione prescritte possono essere ampliate senza compromettere la possibilità di accopp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65"/>
          <p:cNvPicPr/>
          <p:nvPr/>
        </p:nvPicPr>
        <p:blipFill>
          <a:blip r:embed="rId1"/>
          <a:stretch/>
        </p:blipFill>
        <p:spPr>
          <a:xfrm>
            <a:off x="2195640" y="0"/>
            <a:ext cx="5203800" cy="67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366"/>
          <p:cNvPicPr/>
          <p:nvPr/>
        </p:nvPicPr>
        <p:blipFill>
          <a:blip r:embed="rId1"/>
          <a:stretch/>
        </p:blipFill>
        <p:spPr>
          <a:xfrm>
            <a:off x="1476360" y="0"/>
            <a:ext cx="61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42920" y="214200"/>
            <a:ext cx="8643960" cy="61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cune si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 – Ente Nazionale Italiano di Unif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O – 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SI – American National Standard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SME – American Society of Mechanical Engin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STM – American Section of the International Association for Testing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N – Deutsches Institut fur Norm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SI – British Standard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755640" y="836640"/>
            <a:ext cx="727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trascuriamo la forma, un accoppiamento scorrevole albero – foro tipo h/H diviene forzato in assenza di adeguata cilindricità o rettiline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tg"/>
          <p:cNvPicPr/>
          <p:nvPr/>
        </p:nvPicPr>
        <p:blipFill>
          <a:blip r:embed="rId1"/>
          <a:stretch/>
        </p:blipFill>
        <p:spPr>
          <a:xfrm>
            <a:off x="539640" y="3141720"/>
            <a:ext cx="6953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11280" y="907920"/>
            <a:ext cx="7561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mensionamento geome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è un mezzo per specificare in un progetto o in un disegno le funzionalità geometriche e le relazioni funzionali tra le singolarità di forma per ottenere la produzione più qualitativa ed econom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dica come controllare e misurare i particolari, assicurando il rispetto delle intenzioni del progettista e consentendo al costruttore di scegliere le più appropriate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normativa corrente è la UNI 7226 (vedasi) coincidente con la ISO 110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gli USA dove si segue l’omologa ANSI/ASME Y14.5 si usa il termine “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eometric Dimensioning and Tolerancin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” (GD&amp;T) traducibile come “Dimensionamento geometrico a tolleranz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GD&amp;T si propone la creazione di un linguaggio tecnico per trasmettere in maniera univoca e fedele condizioni di forma, dimensione e funzione degli oggetti da rea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ualmente si tende ad utilizzare il termine GPS (Geometrical Product Specification): specifiche geometricge di prodo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68360" y="765000"/>
            <a:ext cx="7632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rincipio di Indipend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iascuna prescrizione dimensionale o geometrica specificata su un disegno deve essere rispettata in se stessa in modo indipendente, salvo non sia prescritta sul disegno una relazione particol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tanto in mancanza di indicazioni specifiche, le tolleranze geometriche si applicano senza tener conto delle dimensioni dell’elemento e le sue prescrizioni, dimensionali e geometriche, devono essere trattate come esigenze tra loro indipend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Ha sostituito il princ. di dipendenza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620640"/>
            <a:ext cx="82087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condo il princi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deviazione di forma non sono limitate dalle Toll. Dim. che controllano solo le dimensioni locali reali di un elemento ma non i suoi errori di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Tolleranze Geometriche limitano lo scostamento di un elemento in rapporto a forma, orientamento e posizione senza tener conto delle dimensioni (fig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disegni cui si applica il principio devono essere identificati con la sigl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olleranze secondo UNI ISO 8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53"/>
          <p:cNvPicPr/>
          <p:nvPr/>
        </p:nvPicPr>
        <p:blipFill>
          <a:blip r:embed="rId1"/>
          <a:stretch/>
        </p:blipFill>
        <p:spPr>
          <a:xfrm>
            <a:off x="176364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54"/>
          <p:cNvPicPr/>
          <p:nvPr/>
        </p:nvPicPr>
        <p:blipFill>
          <a:blip r:embed="rId1"/>
          <a:stretch/>
        </p:blipFill>
        <p:spPr>
          <a:xfrm>
            <a:off x="248436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9:32:56Z</dcterms:created>
  <dc:creator>pirondia</dc:creator>
  <dc:description/>
  <dc:language>en-US</dc:language>
  <cp:lastModifiedBy>Segreteria IPMM07</cp:lastModifiedBy>
  <dcterms:modified xsi:type="dcterms:W3CDTF">2008-04-15T10:44:44Z</dcterms:modified>
  <cp:revision>133</cp:revision>
  <dc:subject/>
  <dc:title>Nessun titolo diapositiva</dc:title>
</cp:coreProperties>
</file>